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962-E611-4394-AF69-9F83EFC2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2F3-7D58-401B-87A8-CD770FC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93C-4268-4BF0-86CC-DD604A84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A74-6CBA-4CB4-A317-93469F29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0FE-079E-44FB-A494-CE3E3E08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D69A-C759-4EC8-85DE-4432A43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A620-F8F5-484D-942E-0992767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DB2E-1733-46F6-8F57-7F262941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9316-0EEC-4627-8683-422318E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A7F-55E4-48C4-A789-D43E550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22B0-1788-4CFE-A20C-3D6C93AF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EEC-B01A-4C0F-A84C-2B9464DF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9C46-5463-48D3-B61D-72009B5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776E-A77C-45B5-8A9F-7D8B247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E10D-8FBA-44EC-A160-A9D8B48F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A4CD-3608-4D10-AB6B-FBBB0148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E5CA-0982-4FB9-8653-F8C5B9DB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07FD-BA6F-4339-BAFE-0F9A27CF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811F-0DEA-40BC-A021-D776ABE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5169-2A82-4600-AC38-5BE17B55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8B18-B59A-4205-B0DB-C1F4E78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A3F2-F79E-4EFA-B69E-76F09CEE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7D4-9425-416B-BC4C-EBA5BE86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6F67-675C-4D5A-8068-ED33E86C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BB35-93A8-46EA-8FA9-BAF39581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5EED-C246-4ECE-8294-F3951AD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E340-5B06-4EAC-8010-6AFD74B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B6BD-B175-4456-BBD8-64EB685E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3318-BF9F-4AF2-830C-B2CB4085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1A09-7370-41C1-80CE-EB6FB4FF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6052-63AB-49E0-8FE1-7EDAB555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8B0A-4AA5-4AE4-95BC-15E6F6F7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D0E5-963D-4B7B-A988-C5BD498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26A-006E-4D33-96A4-9F084E77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4AE5-C585-4B9F-8F4B-30A01EDE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0822-98AC-4273-B8E0-24F2825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147C-DF87-4D3C-84CB-5E1E05E8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E476-FAEE-48BF-ABF8-F41569F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ACED-A1B0-442F-BE5C-B515512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236F-E903-42B0-8C21-5C5A7D0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C4FE-0929-4526-A7D8-451369B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0541-DFDA-4847-8EC4-6EB3995E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ABAB-A33B-45CA-9058-D441E31E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2B34-3A43-4A2B-B056-17FB4581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984-0D63-4BBF-B9F2-A4A1C57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E440-0C0A-4910-A3DD-73D6559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3000-3889-4D8A-91D5-D6F6C200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165D-0BDA-4E52-91D7-E7863F0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75A9-7A5E-4002-9F0B-9C2E580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60655-6BBD-4192-928C-ED6D3E2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773E-7430-4EB8-9C4B-642CCC9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1044A-676A-43DD-B049-DABEE293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106D-CA08-450E-8DF1-DFAC6DA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4D56-FB7E-4047-A5C3-246B4ECF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7F27-523D-40E9-88B6-13364F80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2BF-B481-42DD-B382-8E328F3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E51F-3914-49C7-8802-ABE60892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BC3E8-01BD-4B3B-8369-99844B8C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EE2F3-8A6C-4A8F-815C-A22CF3FC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18D9-8515-436A-A144-00D4915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8A92-CE1B-46B3-8318-A6A7990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4D30-3258-46EA-8FCA-15182C55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08B61-F9D7-4F2F-9E64-D4BC5EEC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A8B3-1347-4FAA-ADEA-BA99F05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95044-13B1-42FA-91AD-C6467A8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66D31-4D67-47D8-973C-07E67CDF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66F-E1DE-4C66-AE26-FF23886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7373-0B5B-4698-9CC7-1AE7585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9480-6C7B-42D3-8968-13891EC6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6FD09-7194-4B8F-B7E3-C7763B04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3DEF-BC53-47AC-9E7C-F2791FE5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2B81E-13E2-455B-A0E0-C47936DF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023B-23F7-44C9-98DF-7A7BE0B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B2B16-9657-440B-B70C-3857F9A5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E25E9-9B15-4D05-B960-F0950E3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2E5D-EC46-40A7-A066-C52E155C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508E-603E-4BEB-B209-00588D8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68A-6F4D-483C-8E50-944BDE09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F4C4-17BE-43A4-9AD1-6253708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3FDF-6D43-4B54-8389-658639D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0276-C310-4337-AC35-8D1488C7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BC08-B56A-4944-BCE0-0AB09DD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BB90-4B52-4993-9892-2AC7F7C7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819B-747A-4995-8567-571C3D5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84C42-65F1-4BA4-A976-501084A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CD2B8-DEB8-4E94-ADB0-93816E83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507B-17DA-4689-8C90-D373790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10E78-C5B0-41E6-AE76-97BC717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AD3-6F33-42F3-B5BC-18506EAA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2B58-31A6-4E5D-825E-94A99076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9492E-235F-4EC7-B0AE-359EBC9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8558D-0F44-4CCB-B599-7B71FA5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C3FB-89DC-4E3D-A456-0435E8D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D47C4-1705-40D8-8677-07F26E6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5F46-E850-46ED-B534-B8D8FBC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6BD3-B9EE-40EC-A010-E1D9AC49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413A-DABA-4D64-91E1-88F4F845AC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C08-920E-47DD-8D0C-674908E55C3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87E-F599-4124-A274-4D8BBDBAFE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8CE6-B785-448E-B46D-0A9A84321A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03C-A364-4309-83BC-724311099DA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DAC7-3001-40AC-9C7E-D8BCDB627D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38E-97B0-4161-B8AA-7977AC87E8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EC2-B25F-436C-9404-42B5922ED72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3193920"/>
            <a:ext cx="8089920" cy="1695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avatare haioaseavatare animate 245 Avatare cu avatare animate"/>
          <p:cNvPicPr/>
          <p:nvPr/>
        </p:nvPicPr>
        <p:blipFill>
          <a:blip r:embed="rId2"/>
          <a:stretch/>
        </p:blipFill>
        <p:spPr>
          <a:xfrm>
            <a:off x="3352680" y="838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reativit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dire criti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sistemi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esponsabilitate social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uto-form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form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i si abilit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me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muni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pacitate de adaptare, de lucru in echip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crea un model de instruire  centrat pe ele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elabora strategii de instruire variate menite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implice pe elevi indiferent de stilul lor de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utiliza  tehnologi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sprijinul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include diverse metode de evaluare care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sigure calitate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ii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fesorul are rolul de a facilit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cesul de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 prin proiectarea,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mplementare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ş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evaluarea le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ilor pe care le su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fesorul ia decizii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privin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 implement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ii programei la nivelul clasei,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fun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e de necesit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le elevilor.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fesorul este un designer al instruiri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levii trebuie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fie capabili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dune inform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ile necesare astfel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ib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pacitatea de a lucr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echip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e a utiliza tehnologia modern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pentru a putea comunica cu exper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din exterior precum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de a formula r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punsuri explicite l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cerin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le programe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ntele trebuie s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rac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eze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ermanen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u unitatea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ar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icipe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mod direct la preg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a continu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elevulu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dcterms:modified xsi:type="dcterms:W3CDTF">2011-01-20T10:57:08Z</dcterms:modified>
  <cp:revision>7</cp:revision>
  <dc:subject/>
  <dc:title>Slide 1</dc:title>
</cp:coreProperties>
</file>